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5.png" ContentType="image/png"/>
  <Override PartName="/ppt/media/image36.png" ContentType="image/png"/>
  <Override PartName="/ppt/media/image51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8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B35-02A5-4751-8E3E-D85A7E16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E9D-FEAF-48CF-9D84-8A8E3913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31AA3-9643-4C3E-93AB-48E95FA8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4FBF0-2266-470C-B51C-5E900E4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D9B80-9203-4444-A7D7-665B4A4B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6C8D2-B184-4D8A-8FB9-F69AF85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7B1B7-7E44-4BFD-8B74-8729287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08E98-7B0C-4803-A2C4-04C9660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0CBE0-FE5C-44E8-AA35-EEBD6FE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E4560-9E10-4FFF-967F-4059E443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B1C45-A848-420B-84BA-4869E18B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081-AF72-4AF1-A2FB-EEA9CA97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F67-A239-4FD6-A895-4D077178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B664-F0CC-4877-9DB0-0A19ABBC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D03-4D2A-4F74-82D3-662D217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0307-5036-4E71-B892-2F1F9CAC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6DC9-61FF-497E-A81C-8B6F81E1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BD08-F79B-463E-A7FF-4E8DF4D8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202-80F7-42A5-8E1B-C2BE89CA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E03A-7E7A-41C7-B800-3DB5F6F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BED-8B90-4C81-8ED4-FCCC58D3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A2BF-924F-4F6F-878C-868C5CF7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7AFE-108F-4EE8-93D8-7AF7E706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3479-9627-4923-A5E8-921F564F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0FED-310B-435B-B482-92D0A1A8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1613-AA44-4BB9-A771-6A9E399C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FCAC-6130-49B4-A903-79C41085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D6F6-281F-4712-957F-85FEBC9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18D67-6501-478A-A9EF-FC5E1238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9BEA-C258-4709-AE89-A6F05E84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1EC7-E4C4-4D49-83DC-CB3422B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DEE-0E62-4621-94E5-D494F93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1BAA-5513-461D-84A5-49B324A5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E5AF-9765-4F5C-BDFB-10BEC19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CE4C-459C-4C28-B14D-B493E49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1A28-5BFD-4639-A7D1-24CDF019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C0B9-B5D0-4143-A816-32A7CE48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EA1E-9E62-4490-9374-AC27DB29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815C-8835-4160-B3BE-264B50ED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8FEC0-E45D-4702-9AA7-1453C96C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9EA65-6EDB-4DBC-9130-D27A24B6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F267-BF26-4FEB-ACBA-543C2209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3B2-0322-4CCC-B22A-F41906F5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91AD-511D-4473-8937-429F6875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00D4-9CE6-44EE-81A7-0ED754D1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C224-F36F-420B-8569-2DE027F3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F378E-1815-4280-AD9C-6FDB6039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5FAE-4773-49CA-9A05-BF960C0D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09C0-372E-482B-AEF4-3F72C34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ACE40-F519-4376-B831-EBEE0D8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58CD-0B03-4579-ABD3-2D0CFCEC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99081-E0D8-47FB-B569-33E8386E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9A8E-13A2-43FB-9988-1E88EA2B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3A9-AB81-4648-BF7A-977EE847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9D3E-D92E-4DDE-A094-638FE18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A99FA-6965-4226-81C2-A9287EB9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F94C4-5190-4EE4-AF45-B28B9C5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BD5D-9E1F-4C6D-A2AE-3A52DEE8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2686-1001-4396-A34E-3D929B9C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8707-3EFD-4E8B-A123-3F25C968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5DE2-0A25-45D1-956B-F20D0CC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C37A5-E234-40BD-8DB6-68B3798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BA08-9265-44D2-8C1C-78473BF4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3CE1-AC96-404D-9A92-ADDE4DFC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C25-0EF7-40D6-A2B0-44A3FB3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06DFD-8C88-458B-9686-B6DC159D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4590C-6825-4D6B-B202-246A332A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2400E-E71C-4BBE-8555-347489D9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68528-332F-4472-8BC2-2FDF4BBC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83174-2ED9-4347-B7A1-1F9F6FB9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7B7E4-644D-407E-AFD8-F1D3A836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16B82-3992-4ED2-859F-D30725D2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903C-51CF-41AE-B93B-F91250A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4E580-32C3-48FD-B803-2A1B6469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3D653-AA94-4E2D-9A9A-1A563077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1B9-7BCB-433A-984A-AB67CE4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7120-F814-4501-8DA8-86E0A10C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7478-FB46-42B2-A9C6-DBCD7FBB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6496-60D5-44B2-9C34-74F4F88F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1FB5-077E-4595-A5F6-C576051E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73B4-30F5-4B2C-B385-B1FA3283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72728-0F1C-42D3-8065-92896B11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51811-DC63-47DF-9267-D8E67CE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F229E-EED6-4213-A81F-72CEED3B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E36D-3966-4CD5-A586-30C8A261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5D1BA-C1B4-4A54-856E-416FF7EE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C5E-D949-4440-AEC2-F5453EA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781FE-FCE6-4807-BB00-36E53FBD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556AD-1401-4798-8750-1F0D159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C3DEB-4B8A-49CF-9F29-E8663445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A268-C5DB-4D56-B4DE-CBC39A87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AFD09-0A5A-4AB4-AAD9-4C573041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5FD43-5A98-41D0-993D-230FA247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8E016-4A49-467D-9828-9F6EB85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EBAD7-23D6-44B9-916A-128B175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F068A-F5CC-44C4-9031-638C4339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9C48-F44E-4D30-A580-D922974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B53-8626-4025-8D14-0F8DBCC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F54A2-D663-462E-88C2-321065A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5E1B8-E01E-431E-BFEE-8B5EBD7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CE0C-92DF-4578-9E0A-4B40935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142FD-3878-4C05-8A8B-086532B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E7CA1-B0A7-4BEE-B736-95EB7A0E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EC870-6069-4D98-AB24-D497F740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1727-0F8A-40AD-A0DC-299BA1BE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39457-4652-4485-9CAA-E7CB3C1C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E0554-2E39-49A6-8144-8B579B5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FDBAE-564B-4B0A-B958-574DD605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2a5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EE3E-1F69-47D0-BCE0-C971EAF878A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14D-5023-4419-9EC0-3FBA7F5EBA4B}" type="slidenum"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rójkąt prostokątny 1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ecc00"/>
              </a:gs>
              <a:gs pos="50000">
                <a:srgbClr val="6dff35"/>
              </a:gs>
              <a:gs pos="100000">
                <a:srgbClr val="2ecc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0" name="Dowolny kształt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cff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Dowolny kształt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Dowolny kształt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93" name="Dowolny kształt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95" name="Łącznik prosty 6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2a5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8B87-3A34-4FED-9D8E-DDD18B3B8392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0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2" name="Łącznik prost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db00"/>
              </a:gs>
              <a:gs pos="100000">
                <a:srgbClr val="91ff74"/>
              </a:gs>
            </a:gsLst>
            <a:lin ang="16200000"/>
          </a:gradFill>
          <a:ln cap="rnd" w="3240">
            <a:solidFill>
              <a:srgbClr val="49b50d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ag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db00"/>
              </a:gs>
              <a:gs pos="100000">
                <a:srgbClr val="91ff74"/>
              </a:gs>
            </a:gsLst>
            <a:lin ang="16200000"/>
          </a:gradFill>
          <a:ln cap="rnd" w="3240">
            <a:solidFill>
              <a:srgbClr val="49b50d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B8F-9514-458B-887C-D9D5AADC8BF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1" name="Łącznik prost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4FE6-6BC8-4CBD-B49C-A33212070CD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2a5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EC5-AF3B-4A26-BE9B-4C968808667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7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9" name="Łącznik prost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653-376B-4084-8517-91FCFFBD26E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2a5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85B9-23D5-43E7-BF71-A00C38B0008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4" name="Trójkąt prostokątny 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5" name="Trójkąt prostokątny 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67" name="Łącznik prosty 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68" name="Pag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db00"/>
              </a:gs>
              <a:gs pos="100000">
                <a:srgbClr val="91ff74"/>
              </a:gs>
            </a:gsLst>
            <a:lin ang="16200000"/>
          </a:gradFill>
          <a:ln cap="rnd" w="3240">
            <a:solidFill>
              <a:srgbClr val="49b50d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ag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db00"/>
              </a:gs>
              <a:gs pos="100000">
                <a:srgbClr val="91ff74"/>
              </a:gs>
            </a:gsLst>
            <a:lin ang="16200000"/>
          </a:gradFill>
          <a:ln cap="rnd" w="3240">
            <a:solidFill>
              <a:srgbClr val="49b50d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90BA-DAF3-4478-A41A-AE0DA1A882E8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ole tekstowe 3"/>
          <p:cNvSpPr/>
          <p:nvPr/>
        </p:nvSpPr>
        <p:spPr>
          <a:xfrm>
            <a:off x="352440" y="3390840"/>
            <a:ext cx="50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udia podyplomow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rządzanie jakością wg norm ISO 9000” ed. 3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ole tekstowe 4"/>
          <p:cNvSpPr/>
          <p:nvPr/>
        </p:nvSpPr>
        <p:spPr>
          <a:xfrm>
            <a:off x="352440" y="4170240"/>
            <a:ext cx="559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mówienie i analiza normy ISO 45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ole tekstowe 5"/>
          <p:cNvSpPr/>
          <p:nvPr/>
        </p:nvSpPr>
        <p:spPr>
          <a:xfrm>
            <a:off x="352440" y="490212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ole tekstowe 6"/>
          <p:cNvSpPr/>
          <p:nvPr/>
        </p:nvSpPr>
        <p:spPr>
          <a:xfrm>
            <a:off x="352440" y="517860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ata: 18.06.202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soba lub grupa osób, pełniąca funkcje z przypisaniem odpowiedzialności, uprawnień i powiązań do osiągniecia swoich celó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/* Termin wspólny dla norm IS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8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DA1C-4F4A-4370-A843-425E7B5D9B24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Lucida Sans Unicode"/>
              </a:rPr>
              <a:t>Kontekst organizacji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52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23E4-1F74-4156-AFC3-F57986DD6BD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określa kwestie zewnętrzne i wewnętrzne, które są istotne dla jej celu i ich wpływu na zdolność do osiągnięcia zakładanego wyniku swojego systemu zarządzania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D5D4-7213-475D-8BC4-04412C572216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08000" y="2204640"/>
            <a:ext cx="89056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jest zobowiązana określi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rony zainteresowane, oprócz pracowników, istotne dla systemu zarządzania BHP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Istotne potrzeby i oczekiwania (tj. wymagania) pracowników i innych zainteresowanych stro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tóre z tych potrzeb i oczekiwań są lub mogłyby stać się wymaganiami prawnymi i innymi wymaganiam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ytuł 2" descr=""/>
          <p:cNvPicPr/>
          <p:nvPr/>
        </p:nvPicPr>
        <p:blipFill>
          <a:blip r:embed="rId1"/>
          <a:stretch/>
        </p:blipFill>
        <p:spPr>
          <a:xfrm>
            <a:off x="176040" y="225360"/>
            <a:ext cx="8839440" cy="1474920"/>
          </a:xfrm>
          <a:prstGeom prst="rect">
            <a:avLst/>
          </a:prstGeom>
          <a:ln w="0">
            <a:noFill/>
          </a:ln>
        </p:spPr>
      </p:pic>
      <p:sp>
        <p:nvSpPr>
          <p:cNvPr id="460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E955-0479-47B3-A729-20D08214E38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24000" y="1481040"/>
            <a:ext cx="84960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Organizacja powinna określić granice i możliwości zastosowania systemu zarządzania bhp, w celu określenia jego zakresu. Ustalając zakres należy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rozważyć czynniki wewnętrzne i zewnętrzne (związane z kontekstem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uwzględnić wymagania dot. Potrzeb i oczekiwań pracowników i innych stron zainteresowany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uwzględnić planowane do wykonania działania związane z pracą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4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618B-F59B-486E-BD18-E5581D1814F9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Zakres systemu powinien obejmować działania, wyroby i usługi, które są pod nadzorem lub wpływem organizacji i mogą mieć wpływ na wyniki systemu oraz być w postaci </a:t>
            </a:r>
            <a:r>
              <a:rPr b="0" lang="pl-PL" sz="2800" spc="-1" strike="noStrike">
                <a:solidFill>
                  <a:srgbClr val="ff0000"/>
                </a:solidFill>
                <a:latin typeface="Lucida Sans Unicode"/>
              </a:rPr>
              <a:t>udokumentowanej informacj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8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66B2-821B-46BD-AFE1-38FF63F3A17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ystem należy ustanowić, wdrożyć, utrzymywać i doskonalić, włączając niezbędne procesy i ich wzajemne powiązania zgodnie z wymaganiami ISO 4500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72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83E-CDEC-4F26-91D7-01045D599E6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Lucida Sans Unicode"/>
              </a:rPr>
              <a:t>Przywództwo i współudział pracowników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76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FAE4-A5B4-40F8-90D9-53C5E18A781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79280" y="1480680"/>
            <a:ext cx="8834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ajwyższe kierownictwo powinno wykazać przywództwo i zaangażowanie poprzez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yjęcie pełnej odpowiedzialności za zapobieganie urazom i dolegliwościom zdrowotnym związanych z pracą oraz zapewnienie bezpiecznych warunków pra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, że polityka i cele bhp są zgodne ze strategią działania organizac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 zintegrowania wymagań systemu z procesami biznesowymi organizac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 zasobów do wdrożenia, utrzymania i doskonalenia systemu…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EC0B-3184-4CD1-A65C-4D7B36FB33D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omunikowanie znaczenia skutecznego zarzadzania bhp i zgodności z wymaganiami systemu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, żeby system bhp osiągał zakładane wyniki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rowanie i wspieranie osób mających wpływ na skuteczność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anie i promowanie ciągłego doskonale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, że organizacja ustanawia i wdraża proces konsultacji z pracownikam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CDA3-E6DC-4036-92EC-0782EDBE6DD9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778880" cy="25970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24000" y="4653000"/>
            <a:ext cx="3848040" cy="985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2a50"/>
                </a:solidFill>
                <a:latin typeface="Arial"/>
              </a:rPr>
              <a:t>Wioletta Kure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30320" y="836280"/>
            <a:ext cx="90136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Najwyższe kierownictwo ustanawia politykę BHP, która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obejmuje zobowiązanie do zapewnienia bezpiecznych warunków pracy, w celu zapobiegania związanym z pracą urazów i dolegliwości zdrowotnych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jest odpowiednia do celu, wielkości, kontekstu, ryzyk i szans dot. bhp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tworzy ramy do realizacji celów bhp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zawiera zobowiązanie do spełnienia wymogów prawnych i innych wymagań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zawiera zobowiązanie do eliminowania zagrożeń i ograniczania ryzyk dot. BHP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zawiera zobowiązanie do ciągłego doskonalenia systemu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obejmuje zobowiązanie do konsultacji i uczestnictwa pracowników oraz/ lub przedstawicieli pracownikó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Polityka BHP ma być w postaci </a:t>
            </a:r>
            <a:r>
              <a:rPr b="0" lang="pl-PL" sz="2300" spc="-1" strike="noStrike">
                <a:solidFill>
                  <a:srgbClr val="ff0000"/>
                </a:solidFill>
                <a:latin typeface="Lucida Sans Unicode"/>
              </a:rPr>
              <a:t>udokumentowanej informacj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487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7B73-7E53-4A25-AEDA-253EBBE77D53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ustanawia, wdraża i utrzymuje procesy konsultacji i udział pracowników na wszystkich mających zastosowanie poziomach i funkcjach, a tam, gdzie występują z  przedstawicielami w zakresie opracowywania, planowania, wdrażania, oceny działania i efektów działań na rzecz doskonalenia systemu zarządzania BH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0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430A-7EED-4327-ACE7-5C313373897A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zapewnia czas, szkolenia i zasoby do współudziału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ć terminowy dostęp do jednoznacznych, istotnych i zrozumiałych informacji na temat systemu bhp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kreślić i usunąć bariery dla współudziału lub ograniczyć te, których nie da się usunąć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dkreślać znaczenie współudziału i konsultacji z pracownikami na stanowiskach niekierowniczy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1DCC-AB63-45F1-8F90-225482593AF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50560" y="1196640"/>
            <a:ext cx="85690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lanując system zarządzania BHP, organizacja określa w postaci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j informacji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yzyka i szanse, ab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pewnić, że system zarządzania BHP może osiągnąć zamierzone rezultaty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pobiegać lub zmniejszać niepożądane skutk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siągnąć ciągłe doskonaleni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rzy ich określaniu bierze pod uwagę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grożenia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yzyka związane z BHP i inne rodzaje ryzyka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możliwości w zakresie BHP i inne możliwości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ymagania prawne i inne wymagan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ytuł 2" descr=""/>
          <p:cNvPicPr/>
          <p:nvPr/>
        </p:nvPicPr>
        <p:blipFill>
          <a:blip r:embed="rId1"/>
          <a:stretch/>
        </p:blipFill>
        <p:spPr>
          <a:xfrm>
            <a:off x="109440" y="274680"/>
            <a:ext cx="8785440" cy="920880"/>
          </a:xfrm>
          <a:prstGeom prst="rect">
            <a:avLst/>
          </a:prstGeom>
          <a:ln w="0">
            <a:noFill/>
          </a:ln>
        </p:spPr>
      </p:pic>
      <p:sp>
        <p:nvSpPr>
          <p:cNvPr id="497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046B-42C8-4193-8575-668D65BE10A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198360" y="907920"/>
            <a:ext cx="8640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ustanawia i określa proces ciągłej identyfikacji zagrożeń, oceny ryzyka oraz określenia potrzebnych środków nadzoru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nia powinny brać pod uwagę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ę pracy, czynniki społeczne, przywództwo oraz kulturę organizacj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lności rutynowe i nierutynowe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stotne incydenty z przeszłości wewnątrz i na zewnątrz organizacji, w tym awarie i ich przyczyny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soby mające dostęp do miejsc pracy włączając podwykonawców i gości, ich możliwości i inne czynniki ludzkie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nne zagadnienia m.in.projektowanie przestrzeni pracy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y stanu wiedzy i informacji o zagrożeniac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Tytuł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645760" cy="779400"/>
          </a:xfrm>
          <a:prstGeom prst="rect">
            <a:avLst/>
          </a:prstGeom>
          <a:ln w="0">
            <a:noFill/>
          </a:ln>
        </p:spPr>
      </p:pic>
      <p:sp>
        <p:nvSpPr>
          <p:cNvPr id="500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9772-BB54-4410-B9AB-A85F0884E4F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ustanowić, wdrożyć i utrzymywać działania dl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ceny ryzyka dot. Bhp związanego ze zidentyfikowanymi zagrożeniami i skutecznością ustalonych środków ograniczających te ryzy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kreślić i ocenić inne ryzyka związane z ustanowieniem, wdrożeniem i utrzymywaniem systemu bh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04E-E820-413C-B5E3-D0DD5FE98C59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611280" y="1628280"/>
            <a:ext cx="8075520" cy="47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nia powinny obejmować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nfrastrukturę, wyposażenie i materiały w miejscu pracy, dostarczone przez organizację lub innych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y lub proponowane zmiany w organizacji, jej działalności lub materiałach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y w systemie zarządzania BHP, włączając zmiany przejściowe i ich wpływ na działania, proces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 czynności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szystkie wymagania prawne w zakresie oceny ryzyka oraz środków ochron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709-8478-404F-B399-94ADF6C8EE92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7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8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określ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ożliwości w zakresie poprawy wyników w zakresie BHP, przy jednoczesnym uwzględnieniu planowanych zmian w organizacji, jej polityki, procesy lub działania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inne szanse poprawy systemu zarządzania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0" name="Tytuł 2" descr=""/>
          <p:cNvPicPr/>
          <p:nvPr/>
        </p:nvPicPr>
        <p:blipFill>
          <a:blip r:embed="rId1"/>
          <a:stretch/>
        </p:blipFill>
        <p:spPr>
          <a:xfrm>
            <a:off x="109440" y="274680"/>
            <a:ext cx="8906040" cy="1146240"/>
          </a:xfrm>
          <a:prstGeom prst="rect">
            <a:avLst/>
          </a:prstGeom>
          <a:ln w="0">
            <a:noFill/>
          </a:ln>
        </p:spPr>
      </p:pic>
      <p:sp>
        <p:nvSpPr>
          <p:cNvPr id="511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C25E-531A-435C-BB11-5A935F90036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24000" y="1341360"/>
            <a:ext cx="8712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rganizacja powinna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stanowić  i utrzymywać procedurę dla identyfikowania i zapewnienia dostępu do wymagań prawnych i innych wymagań bhp, mających zastosowanie w organizacji w odniesieniu do ryzyk, szans i wymagań systemu bh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kreślić jak te wymagania mają być stosowane w organizacji i co powinno być zakomunikowane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względnić te wymagania przy wdrażaniu, utrzymywaniu i doskonaleniu systemu bhp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rganizacja powinna utrzymywać i przechowywać </a:t>
            </a:r>
            <a:r>
              <a:rPr b="0" lang="pl-PL" sz="25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na temat wymagań prawnych i innych wymagań dot. Organizacji oraz zapewnić ich aktualność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4F6-4CCE-4D59-B944-55CF575A65BA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16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ele bhp powinny by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ierzalne albo umożliwiające ocenę efektó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pójne z polityką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względniać wymagania, ryzyka i szanse oraz wyniki konsultacji z pracownikam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onitorow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omunikow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aktualizowane w razie koniecznośc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Cele i plany ich osiągnięcia powinny być w postaci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j informacji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19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1FEB-DFBB-48AD-8448-19B69A0C4E40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ymbol zastępczy stopki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ymbol zastępczy numeru slajdu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8C38-BC96-4DBE-92A8-E0A93D8E3D70}" type="slidenum">
              <a:rPr b="0" lang="pl-PL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-3636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1987 – Jednolity Akt Europejski: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Redukcja wysokich kosztów społecznych i ekonomicznych, powstających z zaniedbania zdrowia i bezpieczeństwa pracownikó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ytyczne Międzynarodowej Organizacji Pracy ILO-OSH w sprawie bezpieczeństwa i higieny pra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y planowaniu celów należy określi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o ma być zrob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Jakie zasoby będą potrzeb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to  jest odpowiedzialny za realizację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dy mają być zrealizow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 jaki sposób będą oceniane wyniki, w tym wskaźniki monitorowa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 jaki sposób będą podejmowane działania, aby osiągnąć cele bh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2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C924-6B4D-4399-9830-F90AB30BCBC3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Lucida Sans Unicode"/>
              </a:rPr>
              <a:t>Zasob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2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0FFA-CEC0-4BFF-BB2B-F4417E27B3C4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ależy określić kompetencje pracowników, którzy mają lub mogą mieć wpływ naefekty działania w zakresie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ć, że pracownicy są kompetentni na podstawie wykształcenia, szkolenia lub doświadcze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Tam, gdzie to konieczne, zapewnić działania w celu zdobycia niezbędnych kompetenc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echowywać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jako dowód kompetenc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CB57-53CB-425D-8C2C-B7CC5D03658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250920" y="1267920"/>
            <a:ext cx="864216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acownicy powinni być świadom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lityki i celów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kładu w skuteczność systemu, w tym korzyści z systemu zarządzania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becnych i potencjalnych konsekwencji z niezgodności z wymaganiami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grożeń i ryzyk dot. Bhp i wynikających z nich działa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ożliwości powstrzymania się od wykonywania pracy lub oddalenia się w przypadku bezpośredniego zagrożenia ich zdrowia lub życ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7648-FCA1-4A8C-AC49-2F5AD5A14D05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ustanowić, wdrożyć i utrzymywać procesy niezbędne dla wewnętrznego i zewnętrznego komunikowania związanego z systemem zarządzania BHP, w tym określen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o będzie się komunikować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dy komunikować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 kim komunikowa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jak się komunikowa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8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9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ACAE-737C-48D2-914B-2C484EF61CCA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ystem bhp powinien zawiera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dokumentowane informacje wymagane przez niniejszą normę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dokumentowane informacje określone przez organizację jako niezbędne dla skutecznego funkcjonowania </a:t>
            </a:r>
            <a:r>
              <a:rPr b="0" i="1" lang="pl-PL" sz="2700" spc="-1" strike="noStrike">
                <a:solidFill>
                  <a:srgbClr val="ff0000"/>
                </a:solidFill>
                <a:latin typeface="Lucida Sans Unicode"/>
              </a:rPr>
              <a:t>(patrz wymagania prawn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4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E154-27C9-4FEE-BCBE-0488367E259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pracowując i aktualizując udokumentowane informacje organizacja powinna zapewni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identyfikacje i opis (np. tytuł, datę, autora, lub numer referencyjny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format (np. język, wersję oprogramowania, grafikę) oraz nośnik (np. papier, wersja elektroniczna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egląd oraz zatwierdzenie przydatności i adekwatnośc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4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7CD7-8598-41A4-97F1-24ABF7FC83C5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dokumentowane informacje wymagane przez system zarządzania bhp i niniejszą normę, powinny być nadzorowane w celu zapewnien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dostępności i przydatności do użytku, wtedy gdy jest to konieczn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dpowiedniego zabezpieczenia (np. przed utratą poufności, niewłaściwego użytkowania lub utracie integralności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0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ED6-7CB2-471C-8DBC-8744BE193E82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Lucida Sans Unicode"/>
              </a:rPr>
              <a:t>Działania operacyjn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5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D1FE-CE5B-4DB5-8590-62EE5F911C9E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16000" y="1125360"/>
            <a:ext cx="87120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planuje, wdraża, nadzoruje i utrzymuje procesy niezbędne do spełnienia wymagań systemu BHP i realizacji działań określonych poprzez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stalanie kryteriów dla procesów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drażanie kontroli procesów zgodnie z kryteriam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trzymywanie i przechowywanie udokumentowanych informacji w zakresie niezbędnym do uzyskania zaufania, że procesy zostały przeprowadzone zgodnie z planem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stosowywanie pracy do pracowników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 miejscach, gdzie działania prowadzą różni pracodawcy, należy koordynować odpowiednie części systemu zarządzania BHP z innymi organizacjam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8" name="Tytuł 2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718480" cy="1060560"/>
          </a:xfrm>
          <a:prstGeom prst="rect">
            <a:avLst/>
          </a:prstGeom>
          <a:ln w="0">
            <a:noFill/>
          </a:ln>
        </p:spPr>
      </p:pic>
      <p:sp>
        <p:nvSpPr>
          <p:cNvPr id="559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A19D-2809-4E80-892E-E3E4741EBC5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BS 880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OHSAS 1800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PN-N 1800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ytuł 2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570880" cy="1146240"/>
          </a:xfrm>
          <a:prstGeom prst="rect">
            <a:avLst/>
          </a:prstGeom>
          <a:ln w="0">
            <a:noFill/>
          </a:ln>
        </p:spPr>
      </p:pic>
      <p:sp>
        <p:nvSpPr>
          <p:cNvPr id="42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ISO 45001 W.Kure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E277-E803-4D69-86E8-E9FA76A7AC6E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stosować działania wg następujących kryterió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Eliminowanie zagroże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stępowanie mniej niebezpiecznymi procesami, działaniami, materiałam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osowanie technicznych i organizacyjnych środków ograniczających ryzyk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osowanie administracyjnych środków ograniczających ryzyko, w tym szkole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osowanie środków ochrony indywidualnej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5A8E-91A0-4160-A077-60320B4DF7A3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ustalić zasady związane z nadzorem nad zmianami tymczasowymi oraz stałymi które wpływają na efekty działania w zakresie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A298-DCF7-454A-A98A-F9F21F406623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ustalić zasady zakupu wyrobów i usług, aby zapewnić zgodność z wymaganiami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0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7093-B612-4421-A38B-7024205520A8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221760" y="980640"/>
            <a:ext cx="87915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powinna koordynować swoje działania z kontrahentami w celu zidentyfikowania zagrożeń oraz oceny i kontroli ryzyk związanych z BHP, wynikających z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lności wykonawców i operacji, które mają wpływ na organizację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ń i operacji organizacji, które mają wpływ na pracowników wykonawców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lności wykonawców i operacji, które mają wpływ na inne zainteresowane strony w miejscu prac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powinna zapewnić spełnienie wymagań swojego systemu zarządzania BHP w odniesieniu do kontrahentów i ich pracowników. Procesy zakupów organizacji powinny zawierać kryteria bezpieczeństwa i higieny pracy do wyboru wykonawców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575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66D2-600D-430F-A326-0D5663D148F1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ocesy zlecane na zewnątrz powinny być nadzorowane. Nadzór ma być spójny z wymaganiami prawnymi i innymi oraz wymaganiami systemu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Rodzaj i zakres nadzoru należy określić w systemie bh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8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9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F10-B13E-4E65-B9C5-450B5B70684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481040"/>
            <a:ext cx="82296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ustanawia, wdraża i utrzymuje procesy niezbędne do przygotowania i reagowania na potencjalne sytuacje awaryjn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stalenie planowanej reakcji na sytuacje awaryjne, w tym udzielanie pierwszej pomocy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pewnienie szkolenia w zakresie planowanej reakcj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kresowe testowanie i realizacja planowanej zdolności reagowani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cena wydajności i, jeśli to konieczne, rewizja planowanej reakcji, w tym po testach w szczególności po wystąpieniu sytuacji awaryjny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3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C6D9-FF49-4C4A-BECD-59A1C8D242C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24000" y="1481040"/>
            <a:ext cx="86896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rzekazywanie i dostarczanie istotnych informacji wszystkim pracownikom w zakresie ich obowiązków i obowiązk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rzekazywanie istotnych informacji kontrahentom, odwiedzającym, służbom ratowniczym, władze rządowe i, w razie potrzeby, społeczność lokaln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względniając potrzeby i możliwości wszystkich odpowiednich zainteresowanych stron i zapewniając ich zaangażowanie, w razie potrzeby, w opracowanie planowanej reakcj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powinna przechowywać i przechowywać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tyczące ww proces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7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A921-5296-40D7-85A5-F362AE0790C9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Lucida Sans Unicode"/>
              </a:rPr>
              <a:t>Ocena efektów działania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9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7ADC-7CFF-4AEE-A782-1AC9A69B743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250560" y="148104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określ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o należy monitorować i mierzy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etody monitorowania, pomiarów i analiz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ryteria oce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dy należy monitorować i mierzy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dy należy analizować, oceniać i komunikować wyniki monitorowa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ależy przechowywać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t. wyników monitorowania i pomiarów oraz dot. wzorcowania lub sprawdzania wyposażen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4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9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7FF-3555-48B7-AADF-0D3674B8E47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250560" y="1413000"/>
            <a:ext cx="84358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kreśla częstotliwość i metodę (metody) oceny zgodnośc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cenić zgodność i podjąć działania w razie potrzeb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trzymywać wiedzę i rozumieć jej status zgodności z wymaganiami prawnymi i innymi wymaganiam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ależy przechowywać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tyczące wyników oceny zgodności</a:t>
            </a:r>
            <a:r>
              <a:rPr b="0" i="1" lang="pl-P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6B0F-F717-48F4-8D6C-36BFFB8AC4C5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00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ymbol zastępczy stopki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Symbol zastępczy numeru slajdu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279C-E136-483B-B19F-33654507FE50}" type="slidenum">
              <a:rPr b="0" lang="pl-PL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437680" cy="1199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512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Lucida Sans Unicode"/>
              </a:rPr>
              <a:t>ISO 45001</a:t>
            </a:r>
            <a:r>
              <a:rPr b="1" lang="de-DE" sz="3200" spc="-1" strike="noStrike">
                <a:solidFill>
                  <a:srgbClr val="ff0000"/>
                </a:solidFill>
                <a:latin typeface="Lucida Sans Unicode"/>
              </a:rPr>
              <a:t>  2018</a:t>
            </a:r>
            <a:r>
              <a:rPr b="1" lang="pl-PL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i="1" lang="pl-PL" sz="32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Systemy zarządzania bezpieczeństwem i higieną pracy.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Wymagania i wytyczne stosow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a6a6a6"/>
                </a:solidFill>
                <a:latin typeface="Lucida Sans Unicode"/>
              </a:rPr>
              <a:t>PN-N 18001:2004 </a:t>
            </a:r>
            <a:r>
              <a:rPr b="0" lang="pl-PL" sz="2400" spc="-1" strike="noStrike">
                <a:solidFill>
                  <a:srgbClr val="a6a6a6"/>
                </a:solidFill>
                <a:latin typeface="Lucida Sans Unicode"/>
              </a:rPr>
              <a:t>Systemy zarządzania bezpieczeństwem i higieną pracy. </a:t>
            </a:r>
            <a:r>
              <a:rPr b="0" lang="pl-PL" sz="2400" spc="-1" strike="noStrike" u="sng">
                <a:solidFill>
                  <a:srgbClr val="a6a6a6"/>
                </a:solidFill>
                <a:uFillTx/>
                <a:latin typeface="Lucida Sans Unicode"/>
              </a:rPr>
              <a:t>Wymagan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a6a6a6"/>
                </a:solidFill>
                <a:latin typeface="Lucida Sans Unicode"/>
              </a:rPr>
              <a:t>OHSAS 18001:2007 </a:t>
            </a:r>
            <a:r>
              <a:rPr b="0" lang="pl-PL" sz="2400" spc="-1" strike="noStrike">
                <a:solidFill>
                  <a:srgbClr val="a6a6a6"/>
                </a:solidFill>
                <a:latin typeface="Lucida Sans Unicode"/>
              </a:rPr>
              <a:t>Systemy zarządzania bezpieczeństwem i higieną pracy. </a:t>
            </a:r>
            <a:r>
              <a:rPr b="0" lang="pl-PL" sz="2400" spc="-1" strike="noStrike" u="sng">
                <a:solidFill>
                  <a:srgbClr val="a6a6a6"/>
                </a:solidFill>
                <a:uFillTx/>
                <a:latin typeface="Lucida Sans Unicode"/>
              </a:rPr>
              <a:t>Wymagania</a:t>
            </a:r>
            <a:br>
              <a:rPr sz="2400"/>
            </a:br>
            <a:r>
              <a:rPr b="0" lang="pl-PL" sz="2400" spc="-1" strike="noStrike" u="sng">
                <a:solidFill>
                  <a:srgbClr val="a6a6a6"/>
                </a:solidFill>
                <a:uFillTx/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349"/>
              </a:spcAft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PN-N 18002:2011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 Systemy zarządzania bezpieczeństwem i higieną pracy. Ogólne wytyczne do oceny ryzyka zawodoweg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przeprowadzać audity wewnętrzne w zaplanowanych odstępach czasu w celu określenia, czy system zarządzania bh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zgodny 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łasnymi wymaganiami organizacji dla systemu zarządzania bhp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ymaganiami niniejszej normy międzynarodowej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skutecznie wdrożony i utrzymywan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0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0C33-A3E5-42CF-B2A2-E4135BB06D8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08000" y="1052640"/>
            <a:ext cx="85788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lanować, ustanowić, wdrożyć i utrzymywać program auditu, w tym częstotliwość, metody, odpowiedzialność, konsultacje, wymagania planowania i raportowania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kreślić kryteria i zakres dla każdego audit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bierać auditorów i prowadzić audity tak aby zapewnić obiektywność i bezstronność procesu audit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pewnić, że wyniki auditów są przekazywane do właściwego kierownictwa; do pracowników, czy przedstawicieli pracownikó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djąć działania w celu wyeliminowania niezgodności i ciągłej popraw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zechow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  <a:ea typeface="Arial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jako dowód realizacji programu audytu i ich wynikó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0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F67E-B4F7-479A-971B-4BE708F8BBCD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ajwyższe kierownictwo powinno przeprowadzać przegląd zarządzania w ustalonych odstępach czasu, dla zapewnienia przydatności, skuteczności i adekwatności. Powinien obejmować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tatus działań z poprzednich przeglądó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y czynników wewnętrznych i zewnętrznych mających wpływ na system bhp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topień realizacji polityki i celów bh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nformacji o efektach działania w zakresie bh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Adekwatności zasobó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zans ciągłego doskonalen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dpowiedniej komunikacji ze stronami zainteresowanym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0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1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C37A-3711-4C5C-A7D3-42331A2A851E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dpowiednie dane wyjściowe z przeglądu zarządzania powinny być zakomunikowane pracownikom oraz tam, gdzie występują przedstawicielom pracownikó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ależy przechowywać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jako dowód wyników przeglądu zarządza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4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1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7FD7-A084-4934-81DF-E104BB10FCF6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108000" y="1481040"/>
            <a:ext cx="87120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przypadku wystąpienia incydentu lub niezgodności, organizacja powinn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zareagować w odpowiednim czasie na incydent lub niezgodność i jeżeli ma to zastosowanie, podjąć działania mające na celu nadzorowanie i skorygowanie oraz zajęcie się następstwam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y współudziale pracowników ocenić potrzebę podjęcia działań w celu wyeliminowania pierwotnej przyczyny niezgodności, tak aby się one nie powtórzyły lub wystąpiły w innym miejscu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konać przeglądu istniejących ryzyk dot. bhp;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8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19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F95B-FBCD-4E1A-A322-9168DE21743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179280" y="1481040"/>
            <a:ext cx="8834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kreślić i wdrożyć wszystkie niezbędne działania, w tym działania korygujące zgodnie z hierarchią środków ograniczających ryzyko i zarządzaniem zmian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cenić przed podjęciem działań ryzyka związane z nowymi lub zmienionymi zagrożeniam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konać oceny skuteczności podjętych działań, w tym działań korygujący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prowadzić zmiany w systemie zarządzania, jeśli okaże się to koniecz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ależy przechowywać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t. niezgodności i działań korygujących oraz przekazywać je odpowiednim pracownikom i przedstawicielom oraz zainteresowanym stronom zewnętrzny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2" name="Tytuł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146240"/>
          </a:xfrm>
          <a:prstGeom prst="rect">
            <a:avLst/>
          </a:prstGeom>
          <a:ln w="0">
            <a:noFill/>
          </a:ln>
        </p:spPr>
      </p:pic>
      <p:sp>
        <p:nvSpPr>
          <p:cNvPr id="62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42EE-0B3A-4F76-8616-05EAF341A8C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250560" y="1052640"/>
            <a:ext cx="85690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rganizacja powinna ciągle doskonalić przydatność, adekwatność i skuteczność systemu zarządzania bhp poprzez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prawę efektów działania w zakresie bh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romowanie kultury wspierającej syst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romowanie współudziału pracowników na rzecz ciągłego doskonalen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komunikowanie odpowiednich wyników pracownikom i przedstawicielom pracowników na rzecz ciągłego doskonalen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Należy utrzymywać i przechowywać </a:t>
            </a:r>
            <a:r>
              <a:rPr b="0" lang="pl-PL" sz="25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jako dowód ciągłego doskonalen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  <p:sp>
        <p:nvSpPr>
          <p:cNvPr id="62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0BE5-3B8E-42B8-8E26-284B2A5817C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6FF5-86AE-4748-9CEF-15D7BB445AB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c78"/>
              </a:solidFill>
              <a:latin typeface="Lucida Sans Unicode"/>
            </a:endParaRPr>
          </a:p>
        </p:txBody>
      </p:sp>
      <p:sp>
        <p:nvSpPr>
          <p:cNvPr id="632" name="WordArt 4"/>
          <p:cNvSpPr txBox="1"/>
          <p:nvPr/>
        </p:nvSpPr>
        <p:spPr>
          <a:xfrm>
            <a:off x="684360" y="2133720"/>
            <a:ext cx="748800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a50"/>
                </a:solidFill>
                <a:latin typeface="Times New Roman"/>
              </a:rPr>
              <a:t>Dziękuję za uwagę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2a50"/>
              </a:solidFill>
              <a:latin typeface="Times New Roman"/>
              <a:ea typeface="Times New Roman"/>
            </a:endParaRPr>
          </a:p>
        </p:txBody>
      </p:sp>
      <p:sp>
        <p:nvSpPr>
          <p:cNvPr id="633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źródło mogące spowodować uraz i dolegliwości zdrowot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2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286A-2DA5-4A68-90F6-7213937F4F20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pływ niepewnoś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Wpływ niepewności jest odchyleniem od oczekiwanego założenia - dodatniego lub ujemneg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Niepewność - stan, nawet częściowy, braku informacji związanych ze zrozumieniem  lub wiedzą na temat zdarzenia, jego skutków lub prawdopodobieństw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280-EC90-4B0C-8BE3-B42923D3F09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ombinacja prawdopodobieństwa wystąpienia niebezpiecznego zdarzenia związanego z pracą lub narażenia oraz ciężkości urazów i dolegliwości zdrowotnych, które mogą być spowodowane przez zdarzenie lub narażen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0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6A8E-301D-49B6-9220-AAE5ED648EA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darzenie powstające w związku z pracą, które mogłoby powodować lub powoduje uraz i dolegliwości zdrowot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Zdarzenie, w którym występują obrażenia i dolegliwości zdrowotne, jest czasem określane jako "wypadek"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Incydent, który nie powoduje urazy ani dolegliwości zdrowotnych może być określany jako zdarzenie potencjalnie wypadkow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4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9E4-7F64-4223-AEDC-37DE0B24604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05:58Z</dcterms:created>
  <dc:creator>MR</dc:creator>
  <dc:description/>
  <dc:language>en-US</dc:language>
  <cp:lastModifiedBy>Wioletta Kurek</cp:lastModifiedBy>
  <dcterms:modified xsi:type="dcterms:W3CDTF">2023-06-13T08:32:31Z</dcterms:modified>
  <cp:revision>240</cp:revision>
  <dc:subject/>
  <dc:title>OHSAS 18001:2007</dc:title>
</cp:coreProperties>
</file>